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06E2-27AF-4551-8A21-4E2D7043CF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Straight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graph equations and find equations from grap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bles of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ble of values is used to generate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oints can be plotted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ight line drawn through these points creates the graph of the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ph y = 2x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ot these points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traight line through the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ollowing straight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3x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x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3x +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a relationship between the graphs and their algebraic expressions!!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dient-Intercept Form of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linear function is written in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mx 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 is its gradient and the b is its y-inter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ollowing graphs, determine their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626-78CB-4F38-B93E-C8E33538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EFC-EE3D-4856-8E0B-E69C6F73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28B-09E2-4E07-98E0-7EF207C5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D53-C6F4-436C-A33B-B00110B6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974-EFD1-4FBB-95D4-C8996307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303-93E9-4F0F-898D-A8F0359E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B686-DAE4-4467-80F4-0FDE5DC0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3FA-5DE3-4E91-89D6-67D04A3F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4661-A8DF-42EB-88FB-3962E0CF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BC3-7747-412C-A4F7-B8ADFF90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5D61-1F91-46EF-8A36-68B73149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F22-D0D1-454B-8652-35EAEF1D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8EE8-77C0-4F7D-B141-C430FB9BE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51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s of Straight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1080" y="2666880"/>
            <a:ext cx="6966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to graph equations and find equations from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301760" y="404640"/>
            <a:ext cx="642924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330200" y="420840"/>
            <a:ext cx="64771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330200" y="479520"/>
            <a:ext cx="646272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374840" y="477720"/>
            <a:ext cx="63658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of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ble of values is used to generat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oints can be plotted on the coordinate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aight line drawn through these points creates the graph of the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2x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32000" y="2708280"/>
          <a:ext cx="6635520" cy="2192400"/>
        </p:xfrm>
        <a:graphic>
          <a:graphicData uri="http://schemas.openxmlformats.org/drawingml/2006/table">
            <a:tbl>
              <a:tblPr/>
              <a:tblGrid>
                <a:gridCol w="1106280"/>
                <a:gridCol w="1105200"/>
                <a:gridCol w="1106280"/>
                <a:gridCol w="1106640"/>
                <a:gridCol w="1104840"/>
                <a:gridCol w="1106280"/>
              </a:tblGrid>
              <a:tr h="109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30"/>
          <p:cNvSpPr/>
          <p:nvPr/>
        </p:nvSpPr>
        <p:spPr>
          <a:xfrm>
            <a:off x="2700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1"/>
          <p:cNvSpPr/>
          <p:nvPr/>
        </p:nvSpPr>
        <p:spPr>
          <a:xfrm>
            <a:off x="3708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4932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3"/>
          <p:cNvSpPr/>
          <p:nvPr/>
        </p:nvSpPr>
        <p:spPr>
          <a:xfrm>
            <a:off x="6084720" y="4073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4"/>
          <p:cNvSpPr/>
          <p:nvPr/>
        </p:nvSpPr>
        <p:spPr>
          <a:xfrm>
            <a:off x="7164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367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these points on th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5352840" cy="486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324000" y="1700280"/>
          <a:ext cx="2952720" cy="792000"/>
        </p:xfrm>
        <a:graphic>
          <a:graphicData uri="http://schemas.openxmlformats.org/drawingml/2006/table">
            <a:tbl>
              <a:tblPr/>
              <a:tblGrid>
                <a:gridCol w="492120"/>
                <a:gridCol w="490320"/>
                <a:gridCol w="493920"/>
                <a:gridCol w="493560"/>
                <a:gridCol w="490680"/>
                <a:gridCol w="49212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Oval 87"/>
          <p:cNvSpPr/>
          <p:nvPr/>
        </p:nvSpPr>
        <p:spPr>
          <a:xfrm>
            <a:off x="6329520" y="44989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8"/>
          <p:cNvSpPr/>
          <p:nvPr/>
        </p:nvSpPr>
        <p:spPr>
          <a:xfrm>
            <a:off x="6621480" y="3933720"/>
            <a:ext cx="90360" cy="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9"/>
          <p:cNvSpPr/>
          <p:nvPr/>
        </p:nvSpPr>
        <p:spPr>
          <a:xfrm>
            <a:off x="6897600" y="338148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0"/>
          <p:cNvSpPr/>
          <p:nvPr/>
        </p:nvSpPr>
        <p:spPr>
          <a:xfrm>
            <a:off x="7183440" y="28195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1"/>
          <p:cNvSpPr/>
          <p:nvPr/>
        </p:nvSpPr>
        <p:spPr>
          <a:xfrm>
            <a:off x="7459560" y="224784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28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traight line through the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5352840" cy="4864320"/>
          </a:xfrm>
          <a:prstGeom prst="rect">
            <a:avLst/>
          </a:prstGeom>
          <a:ln w="0">
            <a:noFill/>
          </a:ln>
        </p:spPr>
      </p:pic>
      <p:sp>
        <p:nvSpPr>
          <p:cNvPr id="70" name="Oval 5"/>
          <p:cNvSpPr/>
          <p:nvPr/>
        </p:nvSpPr>
        <p:spPr>
          <a:xfrm>
            <a:off x="6329520" y="44989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6621480" y="3933720"/>
            <a:ext cx="90360" cy="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"/>
          <p:cNvSpPr/>
          <p:nvPr/>
        </p:nvSpPr>
        <p:spPr>
          <a:xfrm>
            <a:off x="6897600" y="338148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7183440" y="28195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7459560" y="224784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5819760" y="1495080"/>
            <a:ext cx="2067120" cy="4172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669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ollowing straight l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3x –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2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x –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-3x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7"/>
              <p:cNvSpPr txBox="1"/>
              <p:nvPr/>
            </p:nvSpPr>
            <p:spPr>
              <a:xfrm>
                <a:off x="1076400" y="4581360"/>
                <a:ext cx="15145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Text Box 9"/>
          <p:cNvSpPr/>
          <p:nvPr/>
        </p:nvSpPr>
        <p:spPr>
          <a:xfrm>
            <a:off x="5064120" y="2511360"/>
            <a:ext cx="270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ook for a relationship between the graphs and their algebraic expressions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adient-Intercept Form of a Straigh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71600" y="2195640"/>
            <a:ext cx="811368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linear function is written in the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s gradient a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ts y-inter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’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following graphs, determine their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57480" y="406440"/>
            <a:ext cx="646236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23:49:26Z</dcterms:created>
  <dc:creator>sgarvey</dc:creator>
  <dc:description/>
  <dc:language>en-US</dc:language>
  <cp:lastModifiedBy>RomaK</cp:lastModifiedBy>
  <dcterms:modified xsi:type="dcterms:W3CDTF">2015-09-04T07:41:46Z</dcterms:modified>
  <cp:revision>22</cp:revision>
  <dc:subject/>
  <dc:title>Graphs of Straight Lines</dc:title>
</cp:coreProperties>
</file>